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AFD-612A-47B1-B7E2-A2BA70A8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483-B8A7-4683-84EC-8B150D8A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4FB-5345-4B0A-8BDA-83FFEE5A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4F0-77EC-40CA-9A20-AD989139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AEC6-A8C4-4F40-802F-F741C9E0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5E6C-D9B7-4856-930F-25E12627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5B17-67E1-4584-913C-AC9A1676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9A4-DA90-4496-B628-7CE173D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080F-DFB3-41B1-ABB1-430B4312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C059-99D3-4106-AD5D-59AC1957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B9B4-B5FF-410E-80CE-ABA6BEE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D3E-0E2D-44BA-8898-A7156644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EC44-06C7-4B95-92DD-3B9331EB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E9FB-39A3-400F-9A8C-C7E3FAB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3ECF-09DD-4A34-8BE6-7C3FDECD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DF58-6DF3-48B5-A6B6-C8AA6454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7E99-B3DF-4145-A212-30EE8C48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0A7EC-A166-466E-9EAB-08E69FEB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C13C-DD90-48F6-9EDF-ECB18D6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BCEA-669B-41AB-9238-F1F29FA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44025-121B-41AD-B5E0-94072EB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860E-908A-4797-8674-04CC8B3B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161-655B-45F9-ABDC-5359AA72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4352-D1B1-4BCA-94ED-556D8FE9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7799-9CA4-4A31-9954-288D437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FA21-BD52-458D-B901-B635A8E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4573-BE66-4F98-8C85-BE94E29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36E6-774C-40E7-BA3A-A172F36A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D651-17AF-4232-B400-9F1A6229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A65E-2E16-4202-A341-CADFFDC9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0B417-9286-442B-BF8E-0928120B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39CA8-59FE-485D-A82C-A470BC89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3D88D-CB70-4B01-B34E-3225E6F0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271-CC6D-4C4C-85D7-16B71306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984C7-6857-4BA4-88C8-ECA2F390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3D1C-1B62-4D82-BE56-E83747AC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D707-2E57-46F7-9A9A-57F0C7A7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13EA-C6C8-4FE1-AB23-E8AFBE9E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D213D-A9B2-483E-A820-73E0D31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DECC-3DEE-47B7-A20A-C71023F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9C72-C42D-4789-B43A-44CB9FE7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6706-851C-4784-9F0F-569E6348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487B8-AE51-4980-8AEB-641E5E0C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F66CA-6B04-414C-896F-6191D4AB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D8C-0090-4DD6-8846-708184D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77C8-591E-43E1-A30A-5E016545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8EF90-94F1-4513-A4EB-FB585F96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C0535-4E20-434C-BA9C-8D900EDF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9FF4-629E-4C96-8B27-7F881EE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BF84-C520-46BC-92E1-A20F941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D52FD-049E-48B4-B437-67CC636B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1568-E593-49AD-A36E-ED95BA2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83BF-C7C8-4A0E-912B-5B210953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F24A-11EA-4077-A67C-1A42841B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3BB5-2C50-4FBE-894D-24D3E16C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995-6DB0-407E-9609-5202A16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1DD2-451A-4C59-90BE-379B9158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62E59-811B-4A3C-A667-E1332F75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E972-C591-4CA3-B0CD-AB740C2C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60E62-33B1-464E-B71C-C8EF509A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78ADE-E1AA-4A53-A214-BE5B6766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718E-67F0-4DB2-8D31-22C2E6AE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B09A-42AB-43D9-8D4E-CE786400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B47C6-7E86-4219-B067-6D3E26F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E420-16E4-4F07-90EB-B69ADF38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CB68D-BF22-4B5A-B118-63E9E80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9AF-5285-4475-B9AC-102F54C6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EBB16-8FCA-4F02-9845-BC4B40B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4EF89-A380-4F65-9D75-F51588A7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AD66-13C0-483B-80B1-744DD6EB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219F-B859-4CC7-BEB5-ECED5103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01E37-9627-4ECE-8647-12FFA267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F97C6-7425-4AFD-9723-03474A73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494FF-71AD-46A5-BC87-DF28BF8F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D140-09C9-4494-B581-16258669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1255B-6DEB-4442-802A-136B621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1983-DE01-4A8B-B2A5-76B16EE1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4E4-C806-40CA-A040-BE72C3A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C74C5-96AD-4789-BCB3-8B6801C2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2EF0B-1355-4C0B-850D-07FD0E3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887CB-00F0-4209-9809-B5FCC21F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B6BFD-2DF8-433C-9CC6-E73EA0C7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FDACD-6E6C-4135-AFC2-0DF60803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9220-534E-48CF-8BD8-B70C962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EC5A-1B42-4E7A-9335-C433BF5A0C92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F022-F98B-4CA4-9BAC-9297D6CF898A}" type="slidenum">
              <a:rPr b="0" lang="en-US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A4C5-BA83-4896-A572-BE31134B3295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4617b">
                  <a:alpha val="1176"/>
                </a:srgbClr>
              </a:gs>
              <a:gs pos="100000">
                <a:srgbClr val="04617b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7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4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B7BC-7E24-4BEF-A78D-6BBEDFFD9BD6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D85A-3024-4C94-B962-065C06277036}" type="slidenum"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634D-F5B5-4C38-BD09-E70D8DCDA156}" type="slidenum">
              <a:rPr b="0" lang="en-US" sz="9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3CF-2D1D-4BFA-BDA9-0CBDF7BC5F50}" type="slidenum">
              <a:rPr b="0" lang="en-US" sz="9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70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128520"/>
            <a:ext cx="8498160" cy="15415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Вы только что познакомились с человеком, он вам привлекателен. Вы…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Теперь вы здороваетесь при встрече, ведете непродолжительный разговор. Вы…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В классе вы все…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Самая великая ценность в жизни, высокий уровень межличностных отношений…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420840" indent="-35964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00120" y="2571840"/>
          <a:ext cx="609624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500120" y="4143240"/>
          <a:ext cx="609624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000680" y="4714920"/>
          <a:ext cx="5143320" cy="371520"/>
        </p:xfrm>
        <a:graphic>
          <a:graphicData uri="http://schemas.openxmlformats.org/drawingml/2006/table">
            <a:tbl>
              <a:tblPr/>
              <a:tblGrid>
                <a:gridCol w="560160"/>
                <a:gridCol w="703440"/>
                <a:gridCol w="703080"/>
                <a:gridCol w="703440"/>
                <a:gridCol w="703080"/>
                <a:gridCol w="703440"/>
                <a:gridCol w="620640"/>
                <a:gridCol w="446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500120" y="6286680"/>
          <a:ext cx="6096240" cy="37116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5920"/>
                <a:gridCol w="1015920"/>
                <a:gridCol w="10162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31"/>
          <p:cNvSpPr txBox="1"/>
          <p:nvPr/>
        </p:nvSpPr>
        <p:spPr>
          <a:xfrm>
            <a:off x="2195640" y="333360"/>
            <a:ext cx="5330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отношени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37" name="Group 39"/>
          <p:cNvGrpSpPr/>
          <p:nvPr/>
        </p:nvGrpSpPr>
        <p:grpSpPr>
          <a:xfrm>
            <a:off x="685800" y="1676520"/>
            <a:ext cx="3962160" cy="1245960"/>
            <a:chOff x="685800" y="1676520"/>
            <a:chExt cx="3962160" cy="1245960"/>
          </a:xfrm>
        </p:grpSpPr>
        <p:sp>
          <p:nvSpPr>
            <p:cNvPr id="338" name="WordArt 32"/>
            <p:cNvSpPr txBox="1"/>
            <p:nvPr/>
          </p:nvSpPr>
          <p:spPr>
            <a:xfrm>
              <a:off x="685800" y="2514600"/>
              <a:ext cx="2549520" cy="40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знакомство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39" name="Line 35"/>
            <p:cNvSpPr/>
            <p:nvPr/>
          </p:nvSpPr>
          <p:spPr>
            <a:xfrm flipH="1">
              <a:off x="1980720" y="1676520"/>
              <a:ext cx="2667240" cy="7617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0"/>
          <p:cNvGrpSpPr/>
          <p:nvPr/>
        </p:nvGrpSpPr>
        <p:grpSpPr>
          <a:xfrm>
            <a:off x="4648320" y="1676520"/>
            <a:ext cx="4190760" cy="1295280"/>
            <a:chOff x="4648320" y="1676520"/>
            <a:chExt cx="4190760" cy="1295280"/>
          </a:xfrm>
        </p:grpSpPr>
        <p:sp>
          <p:nvSpPr>
            <p:cNvPr id="341" name="WordArt 34"/>
            <p:cNvSpPr txBox="1"/>
            <p:nvPr/>
          </p:nvSpPr>
          <p:spPr>
            <a:xfrm>
              <a:off x="6248520" y="2514600"/>
              <a:ext cx="25905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товарищество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42" name="Line 36"/>
            <p:cNvSpPr/>
            <p:nvPr/>
          </p:nvSpPr>
          <p:spPr>
            <a:xfrm>
              <a:off x="4648320" y="1676520"/>
              <a:ext cx="2666880" cy="7617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38"/>
          <p:cNvGrpSpPr/>
          <p:nvPr/>
        </p:nvGrpSpPr>
        <p:grpSpPr>
          <a:xfrm>
            <a:off x="3419640" y="1700280"/>
            <a:ext cx="2590560" cy="1218600"/>
            <a:chOff x="3419640" y="1700280"/>
            <a:chExt cx="2590560" cy="1218600"/>
          </a:xfrm>
        </p:grpSpPr>
        <p:sp>
          <p:nvSpPr>
            <p:cNvPr id="344" name="WordArt 33"/>
            <p:cNvSpPr txBox="1"/>
            <p:nvPr/>
          </p:nvSpPr>
          <p:spPr>
            <a:xfrm>
              <a:off x="3419640" y="2462040"/>
              <a:ext cx="259056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риятельство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45" name="Line 37"/>
            <p:cNvSpPr/>
            <p:nvPr/>
          </p:nvSpPr>
          <p:spPr>
            <a:xfrm>
              <a:off x="4621320" y="1700280"/>
              <a:ext cx="0" cy="68544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4"/>
          <p:cNvGrpSpPr/>
          <p:nvPr/>
        </p:nvGrpSpPr>
        <p:grpSpPr>
          <a:xfrm>
            <a:off x="459360" y="3200400"/>
            <a:ext cx="1168560" cy="1739880"/>
            <a:chOff x="459360" y="3200400"/>
            <a:chExt cx="1168560" cy="1739880"/>
          </a:xfrm>
        </p:grpSpPr>
        <p:graphicFrame>
          <p:nvGraphicFramePr>
            <p:cNvPr id="347" name="Object 42"/>
            <p:cNvGraphicFramePr/>
            <p:nvPr/>
          </p:nvGraphicFramePr>
          <p:xfrm>
            <a:off x="533520" y="3200400"/>
            <a:ext cx="990360" cy="91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8" name="Object 4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200400"/>
                      <a:ext cx="990360" cy="915840"/>
                    </a:xfrm>
                    <a:prstGeom prst="rect">
                      <a:avLst/>
                    </a:prstGeom>
                    <a:ln w="76320">
                      <a:solidFill>
                        <a:srgbClr val="ffcc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9" name="Text Box 43"/>
            <p:cNvSpPr/>
            <p:nvPr/>
          </p:nvSpPr>
          <p:spPr>
            <a:xfrm>
              <a:off x="459360" y="4114800"/>
              <a:ext cx="116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узна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 лиц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7"/>
          <p:cNvGrpSpPr/>
          <p:nvPr/>
        </p:nvGrpSpPr>
        <p:grpSpPr>
          <a:xfrm>
            <a:off x="764640" y="4952880"/>
            <a:ext cx="1985040" cy="1983600"/>
            <a:chOff x="764640" y="4952880"/>
            <a:chExt cx="1985040" cy="1983600"/>
          </a:xfrm>
        </p:grpSpPr>
        <p:graphicFrame>
          <p:nvGraphicFramePr>
            <p:cNvPr id="351" name="Object 45"/>
            <p:cNvGraphicFramePr/>
            <p:nvPr/>
          </p:nvGraphicFramePr>
          <p:xfrm>
            <a:off x="1380960" y="4952880"/>
            <a:ext cx="726480" cy="1447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80960" y="4952880"/>
                      <a:ext cx="726480" cy="1447560"/>
                    </a:xfrm>
                    <a:prstGeom prst="rect">
                      <a:avLst/>
                    </a:prstGeom>
                    <a:ln w="76320">
                      <a:solidFill>
                        <a:srgbClr val="ffcc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3" name="Text Box 46"/>
            <p:cNvSpPr/>
            <p:nvPr/>
          </p:nvSpPr>
          <p:spPr>
            <a:xfrm>
              <a:off x="764640" y="6476760"/>
              <a:ext cx="198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иветств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50"/>
          <p:cNvGrpSpPr/>
          <p:nvPr/>
        </p:nvGrpSpPr>
        <p:grpSpPr>
          <a:xfrm>
            <a:off x="1527120" y="3203640"/>
            <a:ext cx="2126880" cy="1488240"/>
            <a:chOff x="1527120" y="3203640"/>
            <a:chExt cx="2126880" cy="1488240"/>
          </a:xfrm>
        </p:grpSpPr>
        <p:graphicFrame>
          <p:nvGraphicFramePr>
            <p:cNvPr id="355" name="Object 48"/>
            <p:cNvGraphicFramePr/>
            <p:nvPr/>
          </p:nvGraphicFramePr>
          <p:xfrm>
            <a:off x="2057400" y="3203640"/>
            <a:ext cx="1066680" cy="922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6" name="Object 4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203640"/>
                      <a:ext cx="1066680" cy="922320"/>
                    </a:xfrm>
                    <a:prstGeom prst="rect">
                      <a:avLst/>
                    </a:prstGeom>
                    <a:ln w="76320">
                      <a:solidFill>
                        <a:srgbClr val="ffcc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57" name="Text Box 49"/>
            <p:cNvSpPr/>
            <p:nvPr/>
          </p:nvSpPr>
          <p:spPr>
            <a:xfrm>
              <a:off x="1527120" y="4232160"/>
              <a:ext cx="21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разговарива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54"/>
          <p:cNvGrpSpPr/>
          <p:nvPr/>
        </p:nvGrpSpPr>
        <p:grpSpPr>
          <a:xfrm>
            <a:off x="3882960" y="3505320"/>
            <a:ext cx="1755720" cy="2832480"/>
            <a:chOff x="3882960" y="3505320"/>
            <a:chExt cx="1755720" cy="2832480"/>
          </a:xfrm>
        </p:grpSpPr>
        <p:graphicFrame>
          <p:nvGraphicFramePr>
            <p:cNvPr id="359" name="Object 52"/>
            <p:cNvGraphicFramePr/>
            <p:nvPr/>
          </p:nvGraphicFramePr>
          <p:xfrm>
            <a:off x="3882960" y="3505320"/>
            <a:ext cx="1755720" cy="1644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0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82960" y="3505320"/>
                      <a:ext cx="1755720" cy="1644480"/>
                    </a:xfrm>
                    <a:prstGeom prst="rect">
                      <a:avLst/>
                    </a:prstGeom>
                    <a:ln w="76320">
                      <a:solidFill>
                        <a:srgbClr val="33cc33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1" name="Text Box 53"/>
            <p:cNvSpPr/>
            <p:nvPr/>
          </p:nvSpPr>
          <p:spPr>
            <a:xfrm>
              <a:off x="3949200" y="5146560"/>
              <a:ext cx="16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иятие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е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руг дру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56"/>
          <p:cNvGrpSpPr/>
          <p:nvPr/>
        </p:nvGrpSpPr>
        <p:grpSpPr>
          <a:xfrm>
            <a:off x="6630840" y="3187800"/>
            <a:ext cx="1827360" cy="3369960"/>
            <a:chOff x="6630840" y="3187800"/>
            <a:chExt cx="1827360" cy="3369960"/>
          </a:xfrm>
        </p:grpSpPr>
        <p:graphicFrame>
          <p:nvGraphicFramePr>
            <p:cNvPr id="363" name="Object 51"/>
            <p:cNvGraphicFramePr/>
            <p:nvPr/>
          </p:nvGraphicFramePr>
          <p:xfrm>
            <a:off x="6630840" y="3187800"/>
            <a:ext cx="1827360" cy="181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64" name="Object 5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630840" y="3187800"/>
                      <a:ext cx="1827360" cy="1812960"/>
                    </a:xfrm>
                    <a:prstGeom prst="rect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65" name="Text Box 55"/>
            <p:cNvSpPr/>
            <p:nvPr/>
          </p:nvSpPr>
          <p:spPr>
            <a:xfrm>
              <a:off x="6802920" y="5000760"/>
              <a:ext cx="1500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ружб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а осно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бщ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цел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14716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2d700"/>
                </a:solidFill>
                <a:latin typeface="Constantia"/>
              </a:rPr>
              <a:t>«Золотое правило нравственности»: не делай другому того, чего не хотел бы, чтобы делали тебе.</a:t>
            </a:r>
            <a:endParaRPr b="0" lang="en-US" sz="5400" spc="-1" strike="noStrike">
              <a:solidFill>
                <a:srgbClr val="ff965c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965c"/>
                </a:solidFill>
                <a:latin typeface="Constantia"/>
              </a:rPr>
              <a:t>Правила написания синквейна.</a:t>
            </a:r>
            <a:endParaRPr b="0" lang="en-US" sz="4200" spc="-1" strike="noStrike">
              <a:solidFill>
                <a:srgbClr val="ff965c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Сущ. или местоимени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прилаг.  прила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глагол,  глагол,  глагол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фраза из четырех сл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слово – резюм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65c"/>
                </a:solidFill>
                <a:latin typeface="Constantia"/>
              </a:rPr>
              <a:t>Спасибо за внимание!</a:t>
            </a:r>
            <a:endParaRPr b="0" lang="en-US" sz="6000" spc="-1" strike="noStrike">
              <a:solidFill>
                <a:srgbClr val="ff965c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16034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4357800" y="2205000"/>
            <a:ext cx="43909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Arial"/>
              </a:rPr>
              <a:t>Анту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f6fc6"/>
                </a:solidFill>
                <a:latin typeface="Arial"/>
              </a:rPr>
              <a:t>Ривароль – французский пис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714240" y="1700280"/>
            <a:ext cx="33991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494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2143080" y="2000160"/>
            <a:ext cx="5205600" cy="4214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49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Светлана\Рабочий стол\Новая папка\SL55_2.JPG"/>
          <p:cNvPicPr/>
          <p:nvPr/>
        </p:nvPicPr>
        <p:blipFill>
          <a:blip r:embed="rId2"/>
          <a:stretch/>
        </p:blipFill>
        <p:spPr>
          <a:xfrm>
            <a:off x="1643040" y="1143000"/>
            <a:ext cx="660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-579600" y="-85680"/>
            <a:ext cx="6085080" cy="14936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4643280" y="2500200"/>
            <a:ext cx="471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onstantia"/>
              </a:rPr>
              <a:t>и даже… между государств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0" y="857160"/>
            <a:ext cx="4286160" cy="333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"/>
          <p:cNvPicPr/>
          <p:nvPr/>
        </p:nvPicPr>
        <p:blipFill>
          <a:blip r:embed="rId3"/>
          <a:stretch/>
        </p:blipFill>
        <p:spPr>
          <a:xfrm>
            <a:off x="4286160" y="3762360"/>
            <a:ext cx="4857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1569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лич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5-конечная звезда 3"/>
          <p:cNvSpPr/>
          <p:nvPr/>
        </p:nvSpPr>
        <p:spPr>
          <a:xfrm>
            <a:off x="2928960" y="2571840"/>
            <a:ext cx="3643200" cy="357192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onstantia"/>
              </a:rPr>
              <a:t>В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6500880" y="335772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риятель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5357880" y="607212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товарищ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714680" y="607212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руж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714240" y="34290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семе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479160" cy="1461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onstantia"/>
              </a:rPr>
              <a:t>Здесь уместно употреблять слово             </a:t>
            </a: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«взаимно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onstantia"/>
              </a:rPr>
              <a:t>Взаимодействие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479160" cy="1461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onstantia"/>
              </a:rPr>
              <a:t>Здесь уместно употреблять слово             </a:t>
            </a: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«взаимно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onstantia"/>
              </a:rPr>
              <a:t>Взаимодейств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onstantia"/>
              </a:rPr>
              <a:t>Взаимопомощ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onstantia"/>
              </a:rPr>
              <a:t>Взаимовыруч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Constantia"/>
              </a:rPr>
              <a:t>Взаимопонимание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bbc2"/>
            </a:gs>
            <a:gs pos="100000">
              <a:srgbClr val="bb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2876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80471"/>
                </a:solidFill>
                <a:latin typeface="Constantia"/>
              </a:rPr>
              <a:t>  </a:t>
            </a:r>
            <a:r>
              <a:rPr b="1" i="1" lang="en-US" sz="4000" spc="-1" strike="noStrike">
                <a:solidFill>
                  <a:srgbClr val="a80471"/>
                </a:solidFill>
                <a:latin typeface="Constantia"/>
              </a:rPr>
              <a:t>Чувств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 algn="ctr">
              <a:spcBef>
                <a:spcPts val="10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Выгнутая влево стрелка 3"/>
          <p:cNvSpPr/>
          <p:nvPr/>
        </p:nvSpPr>
        <p:spPr>
          <a:xfrm>
            <a:off x="500040" y="2428920"/>
            <a:ext cx="3071880" cy="4214880"/>
          </a:xfrm>
          <a:custGeom>
            <a:avLst/>
            <a:gdLst>
              <a:gd name="textAreaLeft" fmla="*/ 411480 w 3071880"/>
              <a:gd name="textAreaRight" fmla="*/ 2660400 w 3071880"/>
              <a:gd name="textAreaTop" fmla="*/ 765720 h 4214880"/>
              <a:gd name="textAreaBottom" fmla="*/ 306504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49" stAng="-5400000" swAng="-5400000"/>
                <a:lnTo>
                  <a:pt x="0" y="11784"/>
                </a:lnTo>
                <a:arcTo wR="21600" hR="7849" stAng="10800000" swAng="-3276158"/>
                <a:lnTo>
                  <a:pt x="16200" y="21351"/>
                </a:lnTo>
                <a:lnTo>
                  <a:pt x="21600" y="17665"/>
                </a:lnTo>
                <a:lnTo>
                  <a:pt x="16200" y="13480"/>
                </a:lnTo>
                <a:lnTo>
                  <a:pt x="16200" y="15448"/>
                </a:lnTo>
                <a:arcTo wR="21600" hR="7849" stAng="7523842" swAng="2953641"/>
                <a:lnTo>
                  <a:pt x="690" y="9816"/>
                </a:lnTo>
                <a:arcTo wR="21600" hR="7849" stAng="-10477484" swAng="5077484"/>
                <a:close/>
              </a:path>
              <a:path fill="darkenLess" w="21600" h="21600">
                <a:moveTo>
                  <a:pt x="21600" y="0"/>
                </a:moveTo>
                <a:arcTo wR="21600" hR="7849" stAng="-5400000" swAng="-5400000"/>
                <a:lnTo>
                  <a:pt x="0" y="7849"/>
                </a:lnTo>
                <a:arcTo wR="21600" hR="7849" stAng="10800000" swAng="-322516"/>
                <a:lnTo>
                  <a:pt x="690" y="9816"/>
                </a:lnTo>
                <a:arcTo wR="21600" hR="7849" stAng="-10477484" swAng="5077484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Выгнутая вправо стрелка 4"/>
          <p:cNvSpPr/>
          <p:nvPr/>
        </p:nvSpPr>
        <p:spPr>
          <a:xfrm>
            <a:off x="5929200" y="2357280"/>
            <a:ext cx="3000600" cy="4286520"/>
          </a:xfrm>
          <a:custGeom>
            <a:avLst/>
            <a:gdLst>
              <a:gd name="textAreaLeft" fmla="*/ 401760 w 3000600"/>
              <a:gd name="textAreaRight" fmla="*/ 2598840 w 3000600"/>
              <a:gd name="textAreaTop" fmla="*/ 790200 h 4286520"/>
              <a:gd name="textAreaBottom" fmla="*/ 3121200 h 42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3300017"/>
                <a:lnTo>
                  <a:pt x="5400" y="21347"/>
                </a:lnTo>
                <a:lnTo>
                  <a:pt x="0" y="17820"/>
                </a:lnTo>
                <a:lnTo>
                  <a:pt x="5400" y="13787"/>
                </a:lnTo>
                <a:lnTo>
                  <a:pt x="5400" y="15677"/>
                </a:lnTo>
                <a:arcTo wR="21600" hR="7965" stAng="3300017" swAng="-2991203"/>
                <a:lnTo>
                  <a:pt x="20983" y="9855"/>
                </a:lnTo>
                <a:arcTo wR="21600" hR="7965" stAng="-308813" swAng="-5091187"/>
                <a:close/>
              </a:path>
              <a:path fill="darkenLess" w="21600" h="21600">
                <a:moveTo>
                  <a:pt x="0" y="0"/>
                </a:moveTo>
                <a:arcTo wR="21600" hR="7965" stAng="-5400000" swAng="5400000"/>
                <a:lnTo>
                  <a:pt x="21600" y="11745"/>
                </a:lnTo>
                <a:arcTo wR="21600" hR="7965" stAng="0" swAng="-308813"/>
                <a:lnTo>
                  <a:pt x="20983" y="9855"/>
                </a:lnTo>
                <a:arcTo wR="21600" hR="7965" stAng="-308813" swAng="-50911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428760" y="2357280"/>
            <a:ext cx="87152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диняю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Разъедин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Положительные                                                                  Отриц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Вызывают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Выз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Симпатию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                              </a:t>
            </a:r>
            <a:r>
              <a:rPr b="1" i="1" lang="en-US" sz="2400" spc="-1" strike="noStrike">
                <a:solidFill>
                  <a:srgbClr val="0d0d0d"/>
                </a:solidFill>
                <a:latin typeface="Arial"/>
              </a:rPr>
              <a:t>Антипа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6"/>
          <p:cNvSpPr/>
          <p:nvPr/>
        </p:nvSpPr>
        <p:spPr>
          <a:xfrm>
            <a:off x="0" y="4572000"/>
            <a:ext cx="9715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нутреннее расположение,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торжение, неприя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ривлек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Заголовок 8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9T18:22:08Z</dcterms:modified>
  <cp:revision>49</cp:revision>
  <dc:subject/>
  <dc:title>Отношения между людьми</dc:title>
</cp:coreProperties>
</file>